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7AB-913D-4365-9F47-39907363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CA0-1575-400B-9A4E-3BC21521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FD6-8A18-4209-A03B-10EAA945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40B-0538-4385-B0A3-A087FB3D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4A9-0FA8-442A-B296-69E5C695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835-FDD8-466E-8837-BB474E84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8F64-E8A9-4181-9E87-66F95505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073-B2FF-41A7-8385-FDEFBA5E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96F-C5E6-4D35-9AF3-8AE56FB3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D22-A5F7-44E0-B8FD-617C4FD6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A22-477B-4534-B691-83C59C1E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DBA-5A58-4933-9A86-88A723C2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B11B-CE46-4B88-B61A-34DC6CC43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usinessdictionary.com/definition/employee.html" TargetMode="External"/><Relationship Id="rId2" Type="http://schemas.openxmlformats.org/officeDocument/2006/relationships/hyperlink" Target="http://www.businessdictionary.com/definition/remuneration.html" TargetMode="External"/><Relationship Id="rId3" Type="http://schemas.openxmlformats.org/officeDocument/2006/relationships/hyperlink" Target="http://www.businessdictionary.com/definition/allowance.html" TargetMode="External"/><Relationship Id="rId4" Type="http://schemas.openxmlformats.org/officeDocument/2006/relationships/hyperlink" Target="http://www.businessdictionary.com/definition/overtime.html" TargetMode="External"/><Relationship Id="rId5" Type="http://schemas.openxmlformats.org/officeDocument/2006/relationships/hyperlink" Target="http://www.businessdictionary.com/definition/pay.html" TargetMode="External"/><Relationship Id="rId6" Type="http://schemas.openxmlformats.org/officeDocument/2006/relationships/hyperlink" Target="http://www.businessdictionary.com/definition/commission.html" TargetMode="External"/><Relationship Id="rId7" Type="http://schemas.openxmlformats.org/officeDocument/2006/relationships/hyperlink" Target="http://www.businessdictionary.com/definition/deduction.html" TargetMode="External"/><Relationship Id="rId8" Type="http://schemas.openxmlformats.org/officeDocument/2006/relationships/hyperlink" Target="http://www.businessdictionary.com/definition/gross-pay.html#ixzz167Ez1yLk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vestorwords.com/205/amount.html" TargetMode="External"/><Relationship Id="rId3" Type="http://schemas.openxmlformats.org/officeDocument/2006/relationships/hyperlink" Target="http://www.investorwords.com/1696/employee.html" TargetMode="External"/><Relationship Id="rId4" Type="http://schemas.openxmlformats.org/officeDocument/2006/relationships/hyperlink" Target="http://www.businessdictionary.com/definition/gross-pay.html" TargetMode="External"/><Relationship Id="rId5" Type="http://schemas.openxmlformats.org/officeDocument/2006/relationships/hyperlink" Target="http://www.investorwords.com/1340/deduction.html" TargetMode="External"/><Relationship Id="rId6" Type="http://schemas.openxmlformats.org/officeDocument/2006/relationships/hyperlink" Target="http://www.investorwords.com/5972/taxes.html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hley &amp; Kelsey &amp; Pay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 P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362320"/>
            <a:ext cx="861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of a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ployee'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egular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muner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cluding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llowanc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verti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a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mmission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and bonuses, etc., before an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deduction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re made.</a:t>
            </a: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d mo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businessdictionary.com/definition/gross-pay.html#ixzz167Ez1y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p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6405840" cy="22885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maining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moun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of a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mployee'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ross p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eduction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such as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ax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nd retirement contributions, are m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mor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investorwords.com/6593/net_pay.html#ixzz167GV29H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98108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gebraic expressions, like terms are terms that contain the same variables raised to the same power. Only the coefficients of like terms are diff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adding or subtracting unlike terms is like mixing apples and oranges -- only like terms can be combined. To combine like terms, add the coefficients and multiply the sum by the common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23:21Z</dcterms:created>
  <dc:creator>ashley.gipson</dc:creator>
  <dc:description/>
  <dc:language>en-US</dc:language>
  <cp:lastModifiedBy>ashley.gipson</cp:lastModifiedBy>
  <dcterms:modified xsi:type="dcterms:W3CDTF">2010-11-23T14:48:42Z</dcterms:modified>
  <cp:revision>2</cp:revision>
  <dc:subject/>
  <dc:title>Ashley &amp; Kelsey &amp; Payton</dc:title>
</cp:coreProperties>
</file>